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EA0-A9F3-43E8-A1F8-14AECD29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18B-BDF1-4E75-BD49-BD30190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92D-60B4-4EBF-9ACA-D4C91933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37B-6E97-4142-A644-EDD28B16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1264-84B9-43C4-9A49-970B68B0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79C-1E7C-4AED-80E1-4B1979EA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657-DF15-4045-BE1F-03D048BF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8DA-5E74-4F1F-A34E-6D107A3B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0BC8-57F8-48C3-9AA9-D9916B9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515-765D-4EB8-9185-47D195E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D468-233F-40FA-9C76-F3F9C99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357-2F2B-417B-B018-3BDCDCE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EA2-BC73-4442-8997-D73E54C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B389-16AE-49F3-A748-C3A1CD8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897-79CB-4CE3-8BE0-0511AFAF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2FF5-18FE-4B53-BA16-A490E2D9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AB47-4953-449B-A562-5EDBBE90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125-2BCE-4F43-B94D-92DC9F7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593-70A6-4039-BD8C-BB837E0F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FA8-A898-48A9-AD77-6B41C07B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269-7362-4BBD-A7AC-7DA5AA6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851-6BA5-4774-BC26-3634EC4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05F-6323-4CE2-8E9D-17B3AD2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C23-B73C-432A-80E6-710F846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61A-47D7-4312-962F-FA335ABC2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9C2F-25E7-4F62-B142-E8436D11E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K1bT8ls0M&amp;feature=player_embedded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9000" y="48769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elphi Univers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mbers  of an 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e Te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Chairpers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Counselor or Social Wo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Therap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Psycholog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(those that vary)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Teacher / Special Education / Rea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/ Math Curriculum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e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olid IST Process includ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Diagram 5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Diagram 7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108840" cy="4174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chmarking and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ess Monitor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Summer and Fall Training Workshops"/>
          <p:cNvPicPr/>
          <p:nvPr/>
        </p:nvPicPr>
        <p:blipFill>
          <a:blip r:embed="rId2"/>
          <a:srcRect l="25345" t="0" r="6196" b="60451"/>
          <a:stretch/>
        </p:blipFill>
        <p:spPr>
          <a:xfrm>
            <a:off x="6553080" y="6019920"/>
            <a:ext cx="2438640" cy="653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429000" y="4114800"/>
            <a:ext cx="6858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ae8"/>
                </a:solidFill>
                <a:latin typeface="Arial"/>
              </a:rPr>
              <a:t>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160" y="57240"/>
            <a:ext cx="925812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297180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09760" y="4648320"/>
            <a:ext cx="6438960" cy="25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52680" y="5029200"/>
            <a:ext cx="262908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2629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907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2217800">
            <a:off x="18072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518148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2775200">
            <a:off x="101880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5053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3111800">
            <a:off x="2085840" y="774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yramid of Interven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sential Components of Suc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Diagram 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89920" cy="56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 Structure &amp; Compon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# of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based core instructional progra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reading, math and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creening and progress monitor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-making proces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roblem solving vs. standard protoc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ing a problem solving approach --- composition of th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dures to ensure fidelity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involvement and notification proced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eria and Decision Rules for Determining Levels of Interven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t 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termine individuals at risk based 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udging whether a student is progressing adequately in response to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ecision rules for movement of students between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determining when an intervention is no longer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interventions designed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upp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or cor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ype of 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ing: focus of instruction, size of instructional group, appropriate instructional setting, and appropriately traine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 monitoring procedures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ier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5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295280" y="45720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ity Classroom Instruction based on NYS Curriculum and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053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al Instruction in addition to the standard classroom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36232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licit, intensive instruction specifically designed to meet individual n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343400"/>
            <a:ext cx="8381880" cy="160020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udents in class (should meet the needs of at least 80% of all learn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based curriculum reflecting state stand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and Flexible grouping formats to meet student needs (Differentiated Instruc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, uninterrupted 90 minute block of reading instruction focusing on phonemic awareness, phonics, vocabulary, fluency, and comprehens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al Screening / Benchmark Assessment (3x /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% of students who have not responded to tier 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provided in addition to and not in place of core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grou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20-30 minutes of supplemental interventions 3 – 5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no less than every two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or other qualified personnel determined by the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600200"/>
          <a:ext cx="8229600" cy="506556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5% of students who have not responded to tier I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that differs from tier II in terms of time, duration, group size, frequency of progress monitoring, and fo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ized instru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30-60 minutes of supplemental interventions at least 4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at least 1x / we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ly skilled or trained interventionists in the area of academic need indicated by performance 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 on a student struggling in reading… “I need help!”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ole of the IST (problem solving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needs of the stu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ook at the data (including influencing fac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specific deficit area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options and decide on specific research based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for progress and Increase self-awareness of the students (age appropria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ycle of follow-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progress (student and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setup</cp:lastModifiedBy>
  <dcterms:modified xsi:type="dcterms:W3CDTF">2011-03-11T19:13:14Z</dcterms:modified>
  <cp:revision>22</cp:revision>
  <dc:subject/>
  <dc:title>Response to Intervention (RTI) &amp; The IST Process</dc:title>
</cp:coreProperties>
</file>